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BDF-10C7-4B38-B0CC-7CC0176D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879D-2262-428B-B193-BDBEC240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7EF-1EAB-44A4-BDB2-4CA70A2F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940-BFD3-4162-ACFD-94BE4FF0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503-9D25-49E8-BC8C-DD1E74E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958-A505-4318-B736-F520B150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054-505C-4099-83F8-93976390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B66-A69C-4184-B400-8BD91F8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3CF-07AF-4163-98C7-5BB48310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FDF-9701-4EBF-AB1B-870C6057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25E-0758-449A-AB7E-3548C49B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34B-E710-47D5-A5E6-456A5EEF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36C9-612E-4B60-97A5-E2DB56681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etry Through SL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8280" y="1447920"/>
            <a:ext cx="5181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esson in sound &amp; Rhy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57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55627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989600"/>
            <a:ext cx="5486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828800" y="2819520"/>
            <a:ext cx="3200400" cy="3124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181480" y="28195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77240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B17-7533-4216-AD73-CBCAE3E29D85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werful WORDS, moving B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try sl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mpetition at which poets read or recite origi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etry sl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often very political. Poets talk about cultural, social or racial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1828800" y="6248520"/>
            <a:ext cx="533520" cy="28080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41015" h="21600">
                <a:moveTo>
                  <a:pt x="0" y="0"/>
                </a:moveTo>
                <a:lnTo>
                  <a:pt x="41015" y="0"/>
                </a:lnTo>
                <a:lnTo>
                  <a:pt x="41015" y="21600"/>
                </a:lnTo>
                <a:lnTo>
                  <a:pt x="0" y="21600"/>
                </a:lnTo>
                <a:close/>
              </a:path>
              <a:path fill="lightenLess" w="41015" h="21600">
                <a:moveTo>
                  <a:pt x="0" y="0"/>
                </a:moveTo>
                <a:lnTo>
                  <a:pt x="41015" y="0"/>
                </a:lnTo>
                <a:lnTo>
                  <a:pt x="39615" y="1400"/>
                </a:lnTo>
                <a:lnTo>
                  <a:pt x="1400" y="1400"/>
                </a:lnTo>
                <a:close/>
              </a:path>
              <a:path fill="darken" w="41015" h="21600">
                <a:moveTo>
                  <a:pt x="41015" y="0"/>
                </a:moveTo>
                <a:lnTo>
                  <a:pt x="41015" y="21600"/>
                </a:lnTo>
                <a:lnTo>
                  <a:pt x="39615" y="20200"/>
                </a:lnTo>
                <a:lnTo>
                  <a:pt x="39615" y="1400"/>
                </a:lnTo>
                <a:close/>
              </a:path>
              <a:path fill="darkenLess" w="41015" h="21600">
                <a:moveTo>
                  <a:pt x="41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5" y="20200"/>
                </a:lnTo>
                <a:close/>
              </a:path>
              <a:path fill="lighten" w="41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5" h="21600">
                <a:moveTo>
                  <a:pt x="13501" y="10800"/>
                </a:moveTo>
                <a:lnTo>
                  <a:pt x="27514" y="3794"/>
                </a:lnTo>
                <a:lnTo>
                  <a:pt x="27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763-1D5D-4E1C-B9E1-230410B01A95}" type="slidenum">
              <a:t>2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 it. SE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s is placed on certain syllables to produce a “percussive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derlined words are the ones the poet chooses to “stress,” or speak more loudly or clearly. Try reading it that way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38680" y="11430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Product of t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There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nothing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 i ca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I’m just a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product 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of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and lipton jingeler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tea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 ba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have more flav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I can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tell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 you this stra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and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Kristen ITC"/>
              </a:rPr>
              <a:t>smile 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without a dou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It's true 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cause i saw it wat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neighb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Kristen ITC"/>
              </a:rPr>
              <a:t>By </a:t>
            </a:r>
            <a:r>
              <a:rPr b="0" i="1" lang="en-US" sz="2000" spc="-1" strike="noStrike">
                <a:solidFill>
                  <a:srgbClr val="000000"/>
                </a:solidFill>
                <a:latin typeface="Kristen ITC"/>
              </a:rPr>
              <a:t>Neil Edw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620120" y="6172200"/>
            <a:ext cx="685800" cy="357120"/>
          </a:xfrm>
          <a:custGeom>
            <a:avLst/>
            <a:gdLst>
              <a:gd name="textAreaLeft" fmla="*/ 23040 w 685800"/>
              <a:gd name="textAreaRight" fmla="*/ 662760 w 685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1460" h="21600">
                <a:moveTo>
                  <a:pt x="0" y="0"/>
                </a:moveTo>
                <a:lnTo>
                  <a:pt x="41460" y="0"/>
                </a:lnTo>
                <a:lnTo>
                  <a:pt x="41460" y="21600"/>
                </a:lnTo>
                <a:lnTo>
                  <a:pt x="0" y="21600"/>
                </a:lnTo>
                <a:close/>
              </a:path>
              <a:path fill="lightenLess" w="41460" h="21600">
                <a:moveTo>
                  <a:pt x="0" y="0"/>
                </a:moveTo>
                <a:lnTo>
                  <a:pt x="41460" y="0"/>
                </a:lnTo>
                <a:lnTo>
                  <a:pt x="40060" y="1400"/>
                </a:lnTo>
                <a:lnTo>
                  <a:pt x="1400" y="1400"/>
                </a:lnTo>
                <a:close/>
              </a:path>
              <a:path fill="darken" w="41460" h="21600">
                <a:moveTo>
                  <a:pt x="41460" y="0"/>
                </a:moveTo>
                <a:lnTo>
                  <a:pt x="41460" y="21600"/>
                </a:lnTo>
                <a:lnTo>
                  <a:pt x="40060" y="20200"/>
                </a:lnTo>
                <a:lnTo>
                  <a:pt x="40060" y="1400"/>
                </a:lnTo>
                <a:close/>
              </a:path>
              <a:path fill="darkenLess" w="41460" h="21600">
                <a:moveTo>
                  <a:pt x="414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060" y="20200"/>
                </a:lnTo>
                <a:close/>
              </a:path>
              <a:path fill="lighten" w="414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460" h="21600">
                <a:moveTo>
                  <a:pt x="13723" y="3794"/>
                </a:moveTo>
                <a:lnTo>
                  <a:pt x="27736" y="10800"/>
                </a:lnTo>
                <a:lnTo>
                  <a:pt x="137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304920" y="617220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8534520" y="0"/>
            <a:ext cx="433440" cy="304920"/>
          </a:xfrm>
          <a:custGeom>
            <a:avLst/>
            <a:gdLst>
              <a:gd name="textAreaLeft" fmla="*/ 19440 w 433440"/>
              <a:gd name="textAreaRight" fmla="*/ 414000 w 433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693" h="21600">
                <a:moveTo>
                  <a:pt x="0" y="0"/>
                </a:moveTo>
                <a:lnTo>
                  <a:pt x="30693" y="0"/>
                </a:lnTo>
                <a:lnTo>
                  <a:pt x="30693" y="21600"/>
                </a:lnTo>
                <a:lnTo>
                  <a:pt x="0" y="21600"/>
                </a:lnTo>
                <a:close/>
              </a:path>
              <a:path fill="lightenLess" w="30693" h="21600">
                <a:moveTo>
                  <a:pt x="0" y="0"/>
                </a:moveTo>
                <a:lnTo>
                  <a:pt x="30693" y="0"/>
                </a:lnTo>
                <a:lnTo>
                  <a:pt x="29293" y="1400"/>
                </a:lnTo>
                <a:lnTo>
                  <a:pt x="1400" y="1400"/>
                </a:lnTo>
                <a:close/>
              </a:path>
              <a:path fill="darken" w="30693" h="21600">
                <a:moveTo>
                  <a:pt x="30693" y="0"/>
                </a:moveTo>
                <a:lnTo>
                  <a:pt x="30693" y="21600"/>
                </a:lnTo>
                <a:lnTo>
                  <a:pt x="29293" y="20200"/>
                </a:lnTo>
                <a:lnTo>
                  <a:pt x="29293" y="1400"/>
                </a:lnTo>
                <a:close/>
              </a:path>
              <a:path fill="darkenLess" w="30693" h="21600">
                <a:moveTo>
                  <a:pt x="30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93" y="20200"/>
                </a:lnTo>
                <a:close/>
              </a:path>
              <a:path fill="lighten" w="30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93" h="21600">
                <a:moveTo>
                  <a:pt x="15347" y="3837"/>
                </a:moveTo>
                <a:lnTo>
                  <a:pt x="17923" y="6448"/>
                </a:lnTo>
                <a:lnTo>
                  <a:pt x="17923" y="4707"/>
                </a:lnTo>
                <a:lnTo>
                  <a:pt x="19699" y="4707"/>
                </a:lnTo>
                <a:lnTo>
                  <a:pt x="19699" y="8224"/>
                </a:lnTo>
                <a:lnTo>
                  <a:pt x="22310" y="10800"/>
                </a:lnTo>
                <a:lnTo>
                  <a:pt x="20656" y="10800"/>
                </a:lnTo>
                <a:lnTo>
                  <a:pt x="20656" y="17989"/>
                </a:lnTo>
                <a:lnTo>
                  <a:pt x="10037" y="17989"/>
                </a:lnTo>
                <a:lnTo>
                  <a:pt x="10037" y="10800"/>
                </a:lnTo>
                <a:lnTo>
                  <a:pt x="8384" y="10800"/>
                </a:lnTo>
                <a:close/>
              </a:path>
              <a:path fill="darkenLess" w="30693" h="21600">
                <a:moveTo>
                  <a:pt x="17923" y="6448"/>
                </a:moveTo>
                <a:lnTo>
                  <a:pt x="17923" y="4707"/>
                </a:lnTo>
                <a:lnTo>
                  <a:pt x="19699" y="4707"/>
                </a:lnTo>
                <a:lnTo>
                  <a:pt x="19699" y="8224"/>
                </a:lnTo>
                <a:close/>
              </a:path>
              <a:path fill="darkenLess" w="30693" h="21600">
                <a:moveTo>
                  <a:pt x="14424" y="14299"/>
                </a:moveTo>
                <a:lnTo>
                  <a:pt x="16269" y="14299"/>
                </a:lnTo>
                <a:lnTo>
                  <a:pt x="16269" y="17989"/>
                </a:lnTo>
                <a:lnTo>
                  <a:pt x="20656" y="17989"/>
                </a:lnTo>
                <a:lnTo>
                  <a:pt x="20656" y="10800"/>
                </a:lnTo>
                <a:lnTo>
                  <a:pt x="10037" y="10800"/>
                </a:lnTo>
                <a:lnTo>
                  <a:pt x="10037" y="17989"/>
                </a:lnTo>
                <a:lnTo>
                  <a:pt x="14424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4419720"/>
            <a:ext cx="1905120" cy="1295280"/>
          </a:xfrm>
          <a:prstGeom prst="wedgeRoundRectCallout">
            <a:avLst>
              <a:gd name="adj1" fmla="val -77416"/>
              <a:gd name="adj2" fmla="val 35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Try reading this aloud with friend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886200" y="4267080"/>
            <a:ext cx="15238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475-D89D-4524-8ACA-9933107932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BEAT goes 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981080" y="1295280"/>
            <a:ext cx="5029200" cy="2975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4648320"/>
            <a:ext cx="71625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ercussive, meaning that the words are spoken with rhythm and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here to watch/listen to Bassey Ipki perfor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609480" cy="30492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149" h="21600">
                <a:moveTo>
                  <a:pt x="0" y="0"/>
                </a:moveTo>
                <a:lnTo>
                  <a:pt x="43149" y="0"/>
                </a:lnTo>
                <a:lnTo>
                  <a:pt x="43149" y="21600"/>
                </a:lnTo>
                <a:lnTo>
                  <a:pt x="0" y="21600"/>
                </a:lnTo>
                <a:close/>
              </a:path>
              <a:path fill="lightenLess" w="43149" h="21600">
                <a:moveTo>
                  <a:pt x="0" y="0"/>
                </a:moveTo>
                <a:lnTo>
                  <a:pt x="43149" y="0"/>
                </a:lnTo>
                <a:lnTo>
                  <a:pt x="41749" y="1400"/>
                </a:lnTo>
                <a:lnTo>
                  <a:pt x="1400" y="1400"/>
                </a:lnTo>
                <a:close/>
              </a:path>
              <a:path fill="darken" w="43149" h="21600">
                <a:moveTo>
                  <a:pt x="43149" y="0"/>
                </a:moveTo>
                <a:lnTo>
                  <a:pt x="43149" y="21600"/>
                </a:lnTo>
                <a:lnTo>
                  <a:pt x="41749" y="20200"/>
                </a:lnTo>
                <a:lnTo>
                  <a:pt x="41749" y="1400"/>
                </a:lnTo>
                <a:close/>
              </a:path>
              <a:path fill="darkenLess" w="43149" h="21600">
                <a:moveTo>
                  <a:pt x="43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49" y="20200"/>
                </a:lnTo>
                <a:close/>
              </a:path>
              <a:path fill="lighten" w="43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49" h="21600">
                <a:moveTo>
                  <a:pt x="14568" y="3794"/>
                </a:moveTo>
                <a:lnTo>
                  <a:pt x="28581" y="10800"/>
                </a:lnTo>
                <a:lnTo>
                  <a:pt x="145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8839080" y="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1828800" y="6248520"/>
            <a:ext cx="533520" cy="280800"/>
          </a:xfrm>
          <a:custGeom>
            <a:avLst/>
            <a:gdLst>
              <a:gd name="textAreaLeft" fmla="*/ 18000 w 533520"/>
              <a:gd name="textAreaRight" fmla="*/ 515520 w 53352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41015" h="21600">
                <a:moveTo>
                  <a:pt x="0" y="0"/>
                </a:moveTo>
                <a:lnTo>
                  <a:pt x="41015" y="0"/>
                </a:lnTo>
                <a:lnTo>
                  <a:pt x="41015" y="21600"/>
                </a:lnTo>
                <a:lnTo>
                  <a:pt x="0" y="21600"/>
                </a:lnTo>
                <a:close/>
              </a:path>
              <a:path fill="lightenLess" w="41015" h="21600">
                <a:moveTo>
                  <a:pt x="0" y="0"/>
                </a:moveTo>
                <a:lnTo>
                  <a:pt x="41015" y="0"/>
                </a:lnTo>
                <a:lnTo>
                  <a:pt x="39615" y="1400"/>
                </a:lnTo>
                <a:lnTo>
                  <a:pt x="1400" y="1400"/>
                </a:lnTo>
                <a:close/>
              </a:path>
              <a:path fill="darken" w="41015" h="21600">
                <a:moveTo>
                  <a:pt x="41015" y="0"/>
                </a:moveTo>
                <a:lnTo>
                  <a:pt x="41015" y="21600"/>
                </a:lnTo>
                <a:lnTo>
                  <a:pt x="39615" y="20200"/>
                </a:lnTo>
                <a:lnTo>
                  <a:pt x="39615" y="1400"/>
                </a:lnTo>
                <a:close/>
              </a:path>
              <a:path fill="darkenLess" w="41015" h="21600">
                <a:moveTo>
                  <a:pt x="41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5" y="20200"/>
                </a:lnTo>
                <a:close/>
              </a:path>
              <a:path fill="lighten" w="41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5" h="21600">
                <a:moveTo>
                  <a:pt x="13501" y="10800"/>
                </a:moveTo>
                <a:lnTo>
                  <a:pt x="27514" y="3794"/>
                </a:lnTo>
                <a:lnTo>
                  <a:pt x="275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2286000"/>
            <a:ext cx="1600200" cy="1371600"/>
          </a:xfrm>
          <a:prstGeom prst="cloudCallout">
            <a:avLst>
              <a:gd name="adj1" fmla="val -24703"/>
              <a:gd name="adj2" fmla="val 68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Hey! Check it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72" idx="0"/>
            <a:endCxn id="67" idx="1"/>
          </p:cNvCxnSpPr>
          <p:nvPr/>
        </p:nvCxnSpPr>
        <p:spPr>
          <a:xfrm rot="5400000">
            <a:off x="3977640" y="1604880"/>
            <a:ext cx="1440360" cy="6044040"/>
          </a:xfrm>
          <a:prstGeom prst="curvedConnector5">
            <a:avLst>
              <a:gd name="adj1" fmla="val 17075"/>
              <a:gd name="adj2" fmla="val 51888"/>
              <a:gd name="adj3" fmla="val 170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76E-A94F-4FA1-B621-E66BF14A1C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I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m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ll poetry, happens when words are placed together crea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partner, write a bunch of words on paper – as many as you can think 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, cut them out…and rearrange them like refrigerator po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 competing with other grou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w you’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la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oe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407000">
            <a:off x="4800600" y="5257800"/>
            <a:ext cx="762120" cy="838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3352680" cy="3230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4E3-87F6-48AD-AE24-0AA194122A49}" type="slidenum">
              <a:t>5</a:t>
            </a:fld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ant to LEARN m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99840" y="3885840"/>
            <a:ext cx="75438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werPoint lesson was created by Mr. Dolan, Language 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here for an interesting site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just lik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ing? Check this ou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2884320" cy="218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238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9F4-AE4D-400D-A0FB-C85BC4591A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3889080" cy="29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O. Dolan GED 565 Summer, 2010 - rdolan1@hotmail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655-3BE6-42C1-B7A5-749409E3FD4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4:03Z</dcterms:created>
  <dc:creator>Administrator</dc:creator>
  <dc:description/>
  <dc:language>en-US</dc:language>
  <cp:lastModifiedBy>Administrator</cp:lastModifiedBy>
  <dcterms:modified xsi:type="dcterms:W3CDTF">2010-06-13T21:00:44Z</dcterms:modified>
  <cp:revision>14</cp:revision>
  <dc:subject/>
  <dc:title>Poetry Through SLAM</dc:title>
</cp:coreProperties>
</file>